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CA4-7266-41C5-BC12-6B12C224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9C6-BC9D-43AB-9923-798FEC66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0DD-FC81-4F94-9D66-F4CE3650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C3F-E584-48B0-A739-4FDD316B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4BE-80C8-45BF-B869-D2CEA6A7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F7D-CE78-4E26-96C1-D33B1FA5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4E5-79EA-428B-B5D5-9322C691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460-614E-4C5A-A341-9D79486D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D51-F106-4935-A701-49BC40D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9A3-A868-4FE8-8615-ACED72A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0B0-C258-4973-9B84-FEA8913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254-065B-4559-805A-CDD16D0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756A-5A6C-4EF0-9917-EF6985D15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2</cp:lastModifiedBy>
  <dcterms:modified xsi:type="dcterms:W3CDTF">2008-12-15T21:49:25Z</dcterms:modified>
  <cp:revision>1</cp:revision>
  <dc:subject/>
  <dc:title>PowerPoint Presentation</dc:title>
</cp:coreProperties>
</file>